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052-E38F-49CD-8486-C206DF32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A86-EB6F-4A2D-B854-454F0AE7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573-09E8-42B5-8AF2-D057EE41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B56-29C8-4010-B817-704525AE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39B-4771-413C-A88F-9B7F0614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5A5-1B44-44D7-BCF9-F49B3325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CA4-C4EE-48D2-8A2F-ABACA509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8D3-2839-4490-BCB2-2879E60A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BD9-0D79-4C7C-A579-8824A8FB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BAA-070B-4109-B3F6-7EF0626B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89A-29D8-4842-95A3-5A356087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B50-0B58-49F1-B9F2-0AD89316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DB01-F350-4C5A-92C5-59C6420E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n argument stat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troduce the text, the author, and provide comments about the author or text (Kayla Castillo is a Senior at El Cajon Valley High and a writer for Smoke Sig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ep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phrase or directly quote the author’s main claim (use a ver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her expository article “The Drug that Pretends it Isn’t,” Anna Quindlen-a Pulitzer Prize-winning journalist and novelist argues that “booze and beer are not the same as illegal drugs.  They’re worse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r. 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chool PDA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oup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in groups (max of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grade sheet/card for stickers (write na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rticle “School PDA” page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all of the Prereading steps your group does (each person needs their own sheet of pa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/staple scratch paper to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all of the text marking steps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 argument statement (same sheet of pa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3:52Z</dcterms:created>
  <dc:creator>Teacher</dc:creator>
  <dc:description/>
  <dc:language>en-US</dc:language>
  <cp:lastModifiedBy>Teacher</cp:lastModifiedBy>
  <dcterms:modified xsi:type="dcterms:W3CDTF">2009-12-07T19:43:57Z</dcterms:modified>
  <cp:revision>1</cp:revision>
  <dc:subject/>
  <dc:title>What is an argument statement?</dc:title>
</cp:coreProperties>
</file>